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D670-B411-46CA-B4F5-6C7DA085C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F9F2-03A3-4984-AA63-2FC29C03E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E902-56B6-4210-B10F-FEA906C63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61AB-B849-4D03-8F4A-5B8CC1E96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02C47-CDB9-4DE5-8FAF-72B73BF30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6AF26-B35E-4FB6-8049-BCD57373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03B40-5E04-4D3C-B0F9-268C127CB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A0F52-744E-4C7F-A4C4-0A9D8E3FE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0F4E2-02B8-43F6-85CD-5E37A9802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7E973-EA0C-434A-9CB5-CDD528201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7DF66-D990-4B11-A7EF-0EFF2A73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8C08-6DF5-421B-8534-0BD24B2B0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AC276-4844-48D5-8E62-1437FFA1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DE7C5-D266-47F5-887F-899B3D6A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DF7B3-636E-4D21-B852-D7041F42B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60A4B-ADA7-40B8-8DD8-F2576F081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48A30-C033-4F61-98AE-51A4E4349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028E-0473-4FCB-BAAF-115E4BC4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DC79-3B7C-46BB-9FBB-DD0E27DF8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39FF-6116-43B3-8463-FE5633C16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F028-E424-4372-B756-30188536F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AFED-D68D-45AC-8D10-82FBD455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E248-E935-4EB1-B3BF-496949F6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160A-E06F-4E32-B353-9A45DC34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839F0-CF2C-4D33-A3C0-A4E8D8D3FB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0F12B-B262-44C7-802F-E8E1194FE8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1557000"/>
            <a:ext cx="8748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7e7ff"/>
                </a:solidFill>
                <a:latin typeface="Arial Black"/>
              </a:rPr>
              <a:t>Bevezetés a pszichológiába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ársadalomismeret Epoch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9/201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b7e7ff"/>
                </a:solidFill>
                <a:latin typeface="Arial"/>
              </a:rPr>
              <a:t>A kötődés – Harlow kísérle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619280" y="1268280"/>
            <a:ext cx="5905440" cy="53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619280" y="0"/>
            <a:ext cx="5430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b7e7ff"/>
                </a:solidFill>
                <a:latin typeface="Arial"/>
              </a:rPr>
              <a:t>Interiorizáció vs. behódolás: Milgram kísérlete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411280" y="1484280"/>
            <a:ext cx="42372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 pszichológia „hőskora”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4000" y="6210000"/>
            <a:ext cx="3313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Wilhelm Wund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826920" y="1341360"/>
            <a:ext cx="3141720" cy="4869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145120" y="1268280"/>
            <a:ext cx="3713040" cy="48974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148360" y="6210360"/>
            <a:ext cx="331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Sigmund Freu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reud ösztönelméle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042920" y="1182600"/>
            <a:ext cx="734400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b7e7ff"/>
                </a:solidFill>
                <a:latin typeface="Arial"/>
              </a:rPr>
              <a:t>Freud pszichoszexuális fejlődéselméle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0" y="1773000"/>
            <a:ext cx="91440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ff"/>
                </a:solidFill>
                <a:latin typeface="Arial"/>
              </a:rPr>
              <a:t>Orális (0-1 év) - száj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ff"/>
                </a:solidFill>
                <a:latin typeface="Arial"/>
              </a:rPr>
              <a:t>Anális (1-2/3 év) – végbélnyílá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ff"/>
                </a:solidFill>
                <a:latin typeface="Arial"/>
              </a:rPr>
              <a:t>Fallikus (3-5 év) – nemi szerve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ff"/>
                </a:solidFill>
                <a:latin typeface="Arial"/>
              </a:rPr>
              <a:t>LATENCIA (5/6 év – serdülőkor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ff"/>
                </a:solidFill>
                <a:latin typeface="Arial"/>
              </a:rPr>
              <a:t>Genitális (serdülőkor- ) – nemi szerve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Leonardo: Szent Anna harmadmagával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627280" y="1484280"/>
            <a:ext cx="403380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reud ösztöntan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3795840" cy="5184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rcRect l="0" t="5284" r="12151" b="2483"/>
          <a:stretch/>
        </p:blipFill>
        <p:spPr>
          <a:xfrm>
            <a:off x="6084720" y="1413000"/>
            <a:ext cx="2805120" cy="5184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067280" y="2060640"/>
            <a:ext cx="19447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rós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Thanatosz </a:t>
            </a:r>
            <a:r>
              <a:rPr b="0" lang="hu-HU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b7e7ff"/>
                </a:solidFill>
                <a:latin typeface="Arial"/>
              </a:rPr>
              <a:t>Cesare Lombroso elmélete (1876)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484360" y="1557360"/>
            <a:ext cx="405144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39640" y="-50760"/>
            <a:ext cx="7993080" cy="69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b7e7ff"/>
                </a:solidFill>
                <a:latin typeface="Arial"/>
              </a:rPr>
              <a:t>Urie Bronfenbrenner ökológiai modellj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476360" y="1515960"/>
            <a:ext cx="5689440" cy="53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08:53:18Z</dcterms:created>
  <dc:creator>tanar</dc:creator>
  <dc:description/>
  <dc:language>en-US</dc:language>
  <cp:lastModifiedBy>tanar</cp:lastModifiedBy>
  <dcterms:modified xsi:type="dcterms:W3CDTF">2009-09-07T09:57:04Z</dcterms:modified>
  <cp:revision>5</cp:revision>
  <dc:subject/>
  <dc:title>1. dia</dc:title>
</cp:coreProperties>
</file>