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EA9-2C72-4135-821F-27674040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835-9A9A-4FB2-98A1-C82F30A3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C0E4-D2AE-49F7-8D9E-3ADDC0D2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7DE-FCE9-4257-BBC8-50FAC3A9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8724-303E-448A-ADBF-CE3AF74B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7E0D-59CD-4C13-B6F2-07A6C4AD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A192-9C2A-4E37-B951-12B20546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6BF4-3FD7-4FEC-B1B2-0EF477BC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F485-1EB9-4D14-9577-D5E18FD3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8C61-E1CA-416A-B45E-603F83EF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9DA9-8DE3-4DB6-BEAD-895F4841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EC4-6563-4A13-BF5A-1A7B37E1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F55E-182C-48F0-98C0-E4B77AB4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FC40-8A51-4E22-85F1-C825D878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3190-CC4A-403B-A89E-8FAD16D0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0500-B448-4FA7-B78B-831CD980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F915-B7E9-481F-B197-D036D68E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495-DA03-4145-9215-4AB8F467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7A2E-D3E7-41E7-B84F-C5B218A7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22A9-5DC4-4CB3-B8B1-AB17EE10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C71D-C29E-42F6-90F5-DFB78BFF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FCD7-C58E-48D0-8C6D-1C33DC06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9A3-678B-43D3-9692-869B7BAE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9E2-F720-476F-A34D-F2DCDA3A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1223-20DA-4840-92EE-E05C555B330F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8AF8-2B2A-4336-8675-E6250B956142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ARKETING ALAPISMERETE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2637000"/>
            <a:ext cx="7010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9. október 20. és november 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43280" y="3284640"/>
            <a:ext cx="34178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VEVŐÉRTÉK FOGAL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= a megvásárolt termék vagy szolgáltatás (a) és az érte nyújtott ellenszolgáltatás (b) különbs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ék értéke, szolgáltatás értéke, személyzet/kiszolgálás értéke, imázs érték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öltség, időráfordítás, energia ráfordítás, pszichikai ráfordí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MARKETING HÁLÓZATB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szerzés és ellá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yár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osz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rketing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értékesíté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zolgálta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GY NÉPSZERŰ TÉMA A 21.SZÁZADBAN: 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FOGYASZTÓI MAGATARTÁ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öbbféle modellt alkottak vizsgálatá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ásárlási szándék: a vevő „fekete doboza” (az individuumot rejti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merhető belő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vevő egyéni jellemző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döntési folyamat eleme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ARKETINGTÍPUSOK A VEVŐ SZEMSZÖGÉBŐL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áció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ultur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ion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1557360"/>
            <a:ext cx="1800360" cy="1603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867280" y="3141720"/>
            <a:ext cx="2590920" cy="1722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940360" y="4797360"/>
            <a:ext cx="25923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I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lati tevékenység orientációja a versenyképesség érdekéb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t és a piac kapcsolatán alapu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eredményességének feltétele, hogy az adott vállalkozá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egismerj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ersenytársaknál jobban kielégítse a vevők szükséglete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IN ALAPUL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vők szükséglete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élpia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zervezeti koordináci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yereségessé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LYEK A MARKETING FŐBB ESZKÖZEI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DUCT (termék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ICE (ár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LACE (értékesítés helye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MOTION (kommunikáció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EGY SIKERES MARKETINGFOLYAMAT A 19. SZÁZADBÓL: </a:t>
            </a:r>
            <a:br>
              <a:rPr sz="3400"/>
            </a:b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Isaac Singer és a varrógé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3363840" cy="4724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00720" y="2060640"/>
            <a:ext cx="38271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243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újítása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lábbal hajtott pedá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z anyagot varrás közben leszorító tal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az üzlettárs, Edward Clark ötlet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ingyenes „reklámújság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régi gépek beszámít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női vásárlóközönség megcélz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56: 2564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0: 100000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7: a </a:t>
            </a: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Corporation</a:t>
            </a: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ilág els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ultinacionális c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(Singer vagyona halálakor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5 millió dollá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10360" y="1844640"/>
            <a:ext cx="293364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nry Ford, a Ford T tervezője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inden vevő megkaphatja a kedvenc színű autóját, feltéve, ha az a fekete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63640" y="3164040"/>
            <a:ext cx="45370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A TÁRSADALMI FELELŐSSÉG KÉRDÉ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zabályozás hatá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tikai befoly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tikai befolyásol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senyből adódó hatáso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M EGYSZERŰEN A SZÜKSÉGLETEK KIELÉGÍTÉSE ÉS A PROFIT MAXIMALIZÁLÁSA A CÉL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4:09:15Z</dcterms:created>
  <dc:creator>MS-USER</dc:creator>
  <dc:description/>
  <dc:language>en-US</dc:language>
  <cp:lastModifiedBy>Jakab</cp:lastModifiedBy>
  <dcterms:modified xsi:type="dcterms:W3CDTF">2010-07-05T19:12:47Z</dcterms:modified>
  <cp:revision>4</cp:revision>
  <dc:subject/>
  <dc:title>MARKETING ALAPISMERETEK</dc:title>
</cp:coreProperties>
</file>